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2F9-5B80-4555-97F4-0BE56386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9BB-D1E9-4958-8826-551223FA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FA8-B200-40B8-8DB3-5A0889BA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6C3-322D-4B59-B7B6-00827DC2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1DD-E292-4D5D-96AB-47D3D1D7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E4B-5175-4BE2-90F4-5B394249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8D3-546A-49D6-A32F-74DC334B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79D-A70F-45A3-9083-13EB25AB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771-A50B-45FE-98FF-DCBFD769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CB8-A335-413A-9994-35094DD4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ED0-7DE5-4D2B-9E88-FEDE10C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3FF-B0CC-4C3E-A8F0-654963AD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DA51-6BBD-4144-8375-CDDD95C7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http://www.mathgoodies.com/lessons/vol2/circumference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mference of  Cir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tance a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4080" y="1600200"/>
            <a:ext cx="3886200" cy="3733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ula for Circumference of a Circle - 2π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2190600" cy="216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7913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can it also be written as:  C =  π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Circumference of this 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1523880"/>
            <a:ext cx="2819520" cy="2667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195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343400"/>
            <a:ext cx="9144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start by writing out the appropriate form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= 2π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2514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5867280"/>
            <a:ext cx="243828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3341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60199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2 (3.14) (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5638680"/>
            <a:ext cx="2514600" cy="916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ve and round off to the nearest hundred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Circumfer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438280"/>
            <a:ext cx="3429000" cy="312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0384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c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33520" y="48006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8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.6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.3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280" y="6172200"/>
            <a:ext cx="64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athgoodies.com/lessons/vol2/circumferenc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9:51:08Z</dcterms:created>
  <dc:creator>admin</dc:creator>
  <dc:description/>
  <dc:language>en-US</dc:language>
  <cp:lastModifiedBy>admin</cp:lastModifiedBy>
  <dcterms:modified xsi:type="dcterms:W3CDTF">2008-04-24T10:25:21Z</dcterms:modified>
  <cp:revision>3</cp:revision>
  <dc:subject/>
  <dc:title>Circumference of  Circle </dc:title>
</cp:coreProperties>
</file>